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A51-FC72-43D1-A387-4117E1A0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7AA-EA2B-47D8-B2C5-AAD8C91D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BAB-D8A1-4EBE-A86D-0AE25FA7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389-3A46-4A50-8124-86562879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9FB-038B-47D3-8CE6-E89B2411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690-820F-4DBA-8272-3A476842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8C3-E414-4C21-82CB-EBE504F7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56B-6417-4B2B-8951-A979A1A1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09B-4936-4EC0-84C2-F5BA42C7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2C8-8737-44FE-8C9F-37564C7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CB0-5961-44AB-BE19-0263644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18D-DED7-4720-B187-6A6CCCC6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55E9-FAA7-4860-B7C8-2A620FD6C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kcs user\Local Settings\Temporary Internet Files\Content.IE5\N8X8NVIM\MCj04283850000[1].wmf"/>
          <p:cNvPicPr/>
          <p:nvPr/>
        </p:nvPicPr>
        <p:blipFill>
          <a:blip r:embed="rId1"/>
          <a:stretch/>
        </p:blipFill>
        <p:spPr>
          <a:xfrm>
            <a:off x="7238880" y="2514600"/>
            <a:ext cx="952560" cy="1038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04920" y="45720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eahorses are in the water.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sh join them. How many sea creatures are there? Which equation best shows this probl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362320" y="2666880"/>
            <a:ext cx="91440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5638680" y="2743200"/>
            <a:ext cx="914400" cy="99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4"/>
          <a:stretch/>
        </p:blipFill>
        <p:spPr>
          <a:xfrm>
            <a:off x="4038480" y="2743200"/>
            <a:ext cx="914400" cy="99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kcs user\Local Settings\Temporary Internet Files\Content.IE5\N8X8NVIM\MCj04283850000[1].wmf"/>
          <p:cNvPicPr/>
          <p:nvPr/>
        </p:nvPicPr>
        <p:blipFill>
          <a:blip r:embed="rId5"/>
          <a:stretch/>
        </p:blipFill>
        <p:spPr>
          <a:xfrm>
            <a:off x="914400" y="2666880"/>
            <a:ext cx="952560" cy="1038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kcs user\Local Settings\Temporary Internet Files\Content.IE5\N8X8NVIM\MCj04283850000[1].wmf"/>
          <p:cNvPicPr/>
          <p:nvPr/>
        </p:nvPicPr>
        <p:blipFill>
          <a:blip r:embed="rId6"/>
          <a:stretch/>
        </p:blipFill>
        <p:spPr>
          <a:xfrm>
            <a:off x="6553080" y="3429000"/>
            <a:ext cx="952560" cy="103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sitevip.net/gifs/fish/fishswim5_animado.gif"/>
          <p:cNvPicPr/>
          <p:nvPr/>
        </p:nvPicPr>
        <p:blipFill>
          <a:blip r:embed="rId7"/>
          <a:stretch/>
        </p:blipFill>
        <p:spPr>
          <a:xfrm>
            <a:off x="4267080" y="2133720"/>
            <a:ext cx="19036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sitevip.net/gifs/fish/fishswim5_animado.gif"/>
          <p:cNvPicPr/>
          <p:nvPr/>
        </p:nvPicPr>
        <p:blipFill>
          <a:blip r:embed="rId8"/>
          <a:stretch/>
        </p:blipFill>
        <p:spPr>
          <a:xfrm>
            <a:off x="2487600" y="3429000"/>
            <a:ext cx="190188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685800" y="44956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6 – 2 =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4876920" y="449568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6 + 2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kcs user\Local Settings\Temporary Internet Files\Content.IE5\N8X8NVIM\MCj03264740000[1].wmf"/>
          <p:cNvPicPr/>
          <p:nvPr/>
        </p:nvPicPr>
        <p:blipFill>
          <a:blip r:embed="rId2"/>
          <a:stretch/>
        </p:blipFill>
        <p:spPr>
          <a:xfrm>
            <a:off x="7086600" y="4621320"/>
            <a:ext cx="1482840" cy="788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Documents and Settings\kcs user\Local Settings\Temporary Internet Files\Content.IE5\N8X8NVIM\MCj03264740000[1].wmf"/>
          <p:cNvPicPr/>
          <p:nvPr/>
        </p:nvPicPr>
        <p:blipFill>
          <a:blip r:embed="rId3"/>
          <a:stretch/>
        </p:blipFill>
        <p:spPr>
          <a:xfrm>
            <a:off x="5181480" y="4648320"/>
            <a:ext cx="1482840" cy="787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kcs user\Local Settings\Temporary Internet Files\Content.IE5\N8X8NVIM\MCj03264740000[1].wmf"/>
          <p:cNvPicPr/>
          <p:nvPr/>
        </p:nvPicPr>
        <p:blipFill>
          <a:blip r:embed="rId4"/>
          <a:stretch/>
        </p:blipFill>
        <p:spPr>
          <a:xfrm>
            <a:off x="3505320" y="4648320"/>
            <a:ext cx="1482480" cy="78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kcs user\Local Settings\Temporary Internet Files\Content.IE5\N8X8NVIM\MCj03264740000[1].wmf"/>
          <p:cNvPicPr/>
          <p:nvPr/>
        </p:nvPicPr>
        <p:blipFill>
          <a:blip r:embed="rId5"/>
          <a:stretch/>
        </p:blipFill>
        <p:spPr>
          <a:xfrm>
            <a:off x="8402760" y="3276720"/>
            <a:ext cx="1482480" cy="7873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0"/>
          <p:cNvSpPr/>
          <p:nvPr/>
        </p:nvSpPr>
        <p:spPr>
          <a:xfrm>
            <a:off x="0" y="0"/>
            <a:ext cx="4876920" cy="3750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 frogs are sitting in the rainforest. One hops over. How many frogs are the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+1=4     or   1+ 3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0.04259 C -0.11198 -0.06968 -0.13333 -0.18172 -0.16198 -0.17338 C -0.19062 -0.16505 -0.23299 0.10277 -0.26198 0.09328 C -0.29097 0.08379 -0.30677 -0.23033 -0.33576 -0.23033 C -0.36476 -0.23033 -0.40677 0.06041 -0.43576 0.09328 C -0.46476 0.12615 -0.47622 -0.03241 -0.50955 -0.03357 C -0.54288 -0.03473 -0.6092 0.0875 -0.63576 0.08703 C -0.66233 0.08657 -0.65208 -0.05255 -0.6691 -0.03681 C -0.68611 -0.02107 -0.72691 0.14467 -0.73802 0.18217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380880" y="304920"/>
            <a:ext cx="8534520" cy="1556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dybugs were sitting on a flower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w awa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ladybugs we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 + 2 = 8              or         6 - 2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kcs user\Local Settings\Temporary Internet Files\Content.IE5\HFUIXQC2\MCj04374430000[1].wmf"/>
          <p:cNvPicPr/>
          <p:nvPr/>
        </p:nvPicPr>
        <p:blipFill>
          <a:blip r:embed="rId2"/>
          <a:stretch/>
        </p:blipFill>
        <p:spPr>
          <a:xfrm>
            <a:off x="3178080" y="5410080"/>
            <a:ext cx="13114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kcs user\Local Settings\Temporary Internet Files\Content.IE5\HFUIXQC2\MCj04374430000[1].wmf"/>
          <p:cNvPicPr/>
          <p:nvPr/>
        </p:nvPicPr>
        <p:blipFill>
          <a:blip r:embed="rId3"/>
          <a:stretch/>
        </p:blipFill>
        <p:spPr>
          <a:xfrm>
            <a:off x="2133720" y="54100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Documents and Settings\kcs user\Local Settings\Temporary Internet Files\Content.IE5\AT2BMQ76\MCWB01292_0000[1].gif"/>
          <p:cNvPicPr/>
          <p:nvPr/>
        </p:nvPicPr>
        <p:blipFill>
          <a:blip r:embed="rId4"/>
          <a:stretch/>
        </p:blipFill>
        <p:spPr>
          <a:xfrm>
            <a:off x="2362320" y="5334120"/>
            <a:ext cx="55224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kcs user\Local Settings\Temporary Internet Files\Content.IE5\AT2BMQ76\MCWB01292_0000[1].gif"/>
          <p:cNvPicPr/>
          <p:nvPr/>
        </p:nvPicPr>
        <p:blipFill>
          <a:blip r:embed="rId5"/>
          <a:stretch/>
        </p:blipFill>
        <p:spPr>
          <a:xfrm>
            <a:off x="2743200" y="541008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kcs user\Local Settings\Temporary Internet Files\Content.IE5\AT2BMQ76\MCWB01292_0000[1].gif"/>
          <p:cNvPicPr/>
          <p:nvPr/>
        </p:nvPicPr>
        <p:blipFill>
          <a:blip r:embed="rId6"/>
          <a:stretch/>
        </p:blipFill>
        <p:spPr>
          <a:xfrm>
            <a:off x="2514600" y="54864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Documents and Settings\kcs user\Local Settings\Temporary Internet Files\Content.IE5\AT2BMQ76\MCWB01292_0000[1].gif"/>
          <p:cNvPicPr/>
          <p:nvPr/>
        </p:nvPicPr>
        <p:blipFill>
          <a:blip r:embed="rId7"/>
          <a:stretch/>
        </p:blipFill>
        <p:spPr>
          <a:xfrm>
            <a:off x="3886200" y="5334120"/>
            <a:ext cx="552600" cy="55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kcs user\Local Settings\Temporary Internet Files\Content.IE5\AT2BMQ76\MCWB01292_0000[1].gif"/>
          <p:cNvPicPr/>
          <p:nvPr/>
        </p:nvPicPr>
        <p:blipFill>
          <a:blip r:embed="rId8"/>
          <a:stretch/>
        </p:blipFill>
        <p:spPr>
          <a:xfrm>
            <a:off x="2743200" y="5943600"/>
            <a:ext cx="55260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Documents and Settings\kcs user\Local Settings\Temporary Internet Files\Content.IE5\AT2BMQ76\MCWB01292_0000[1].gif"/>
          <p:cNvPicPr/>
          <p:nvPr/>
        </p:nvPicPr>
        <p:blipFill>
          <a:blip r:embed="rId9"/>
          <a:stretch/>
        </p:blipFill>
        <p:spPr>
          <a:xfrm>
            <a:off x="3429000" y="5334120"/>
            <a:ext cx="5526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57200" y="5335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+ 5 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2"/>
          <p:cNvSpPr/>
          <p:nvPr/>
        </p:nvSpPr>
        <p:spPr>
          <a:xfrm>
            <a:off x="4572000" y="2514600"/>
            <a:ext cx="533520" cy="53352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3"/>
          <p:cNvSpPr/>
          <p:nvPr/>
        </p:nvSpPr>
        <p:spPr>
          <a:xfrm>
            <a:off x="5638680" y="2514600"/>
            <a:ext cx="533520" cy="53352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Point Star 4"/>
          <p:cNvSpPr/>
          <p:nvPr/>
        </p:nvSpPr>
        <p:spPr>
          <a:xfrm>
            <a:off x="5486400" y="39625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Point Star 5"/>
          <p:cNvSpPr/>
          <p:nvPr/>
        </p:nvSpPr>
        <p:spPr>
          <a:xfrm>
            <a:off x="609588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-Point Star 6"/>
          <p:cNvSpPr/>
          <p:nvPr/>
        </p:nvSpPr>
        <p:spPr>
          <a:xfrm>
            <a:off x="7620120" y="3962520"/>
            <a:ext cx="53316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Point Star 7"/>
          <p:cNvSpPr/>
          <p:nvPr/>
        </p:nvSpPr>
        <p:spPr>
          <a:xfrm>
            <a:off x="723888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Point Star 8"/>
          <p:cNvSpPr/>
          <p:nvPr/>
        </p:nvSpPr>
        <p:spPr>
          <a:xfrm>
            <a:off x="769608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-Point Star 9"/>
          <p:cNvSpPr/>
          <p:nvPr/>
        </p:nvSpPr>
        <p:spPr>
          <a:xfrm>
            <a:off x="8229600" y="2514600"/>
            <a:ext cx="53352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533520" y="22096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+ 4  =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5-Point Star 11"/>
          <p:cNvSpPr/>
          <p:nvPr/>
        </p:nvSpPr>
        <p:spPr>
          <a:xfrm>
            <a:off x="4724280" y="7621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-Point Star 12"/>
          <p:cNvSpPr/>
          <p:nvPr/>
        </p:nvSpPr>
        <p:spPr>
          <a:xfrm>
            <a:off x="5257800" y="7621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-Point Star 13"/>
          <p:cNvSpPr/>
          <p:nvPr/>
        </p:nvSpPr>
        <p:spPr>
          <a:xfrm>
            <a:off x="5867280" y="762120"/>
            <a:ext cx="53352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-Point Star 14"/>
          <p:cNvSpPr/>
          <p:nvPr/>
        </p:nvSpPr>
        <p:spPr>
          <a:xfrm>
            <a:off x="6477120" y="762120"/>
            <a:ext cx="53316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-Point Star 15"/>
          <p:cNvSpPr/>
          <p:nvPr/>
        </p:nvSpPr>
        <p:spPr>
          <a:xfrm>
            <a:off x="7086600" y="762120"/>
            <a:ext cx="53352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Point Star 16"/>
          <p:cNvSpPr/>
          <p:nvPr/>
        </p:nvSpPr>
        <p:spPr>
          <a:xfrm>
            <a:off x="7620120" y="762120"/>
            <a:ext cx="533160" cy="5331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457200" y="41148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 + 1  =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-Point Star 18"/>
          <p:cNvSpPr/>
          <p:nvPr/>
        </p:nvSpPr>
        <p:spPr>
          <a:xfrm>
            <a:off x="4419720" y="3962520"/>
            <a:ext cx="53316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-Point Star 19"/>
          <p:cNvSpPr/>
          <p:nvPr/>
        </p:nvSpPr>
        <p:spPr>
          <a:xfrm>
            <a:off x="4952880" y="39625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-Point Star 20"/>
          <p:cNvSpPr/>
          <p:nvPr/>
        </p:nvSpPr>
        <p:spPr>
          <a:xfrm>
            <a:off x="6477120" y="3962520"/>
            <a:ext cx="53316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21"/>
          <p:cNvSpPr/>
          <p:nvPr/>
        </p:nvSpPr>
        <p:spPr>
          <a:xfrm>
            <a:off x="6019920" y="3962520"/>
            <a:ext cx="53316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-Point Star 22"/>
          <p:cNvSpPr/>
          <p:nvPr/>
        </p:nvSpPr>
        <p:spPr>
          <a:xfrm>
            <a:off x="5029200" y="2514600"/>
            <a:ext cx="533520" cy="53352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-Point Star 23"/>
          <p:cNvSpPr/>
          <p:nvPr/>
        </p:nvSpPr>
        <p:spPr>
          <a:xfrm>
            <a:off x="7010280" y="3962520"/>
            <a:ext cx="533520" cy="53316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-Point Star 24"/>
          <p:cNvSpPr/>
          <p:nvPr/>
        </p:nvSpPr>
        <p:spPr>
          <a:xfrm>
            <a:off x="6705720" y="2514600"/>
            <a:ext cx="533160" cy="53352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1:36:42Z</dcterms:created>
  <dc:creator>kcs user</dc:creator>
  <dc:description/>
  <dc:language>en-US</dc:language>
  <cp:lastModifiedBy>kcs user</cp:lastModifiedBy>
  <dcterms:modified xsi:type="dcterms:W3CDTF">2008-10-09T12:45:16Z</dcterms:modified>
  <cp:revision>6</cp:revision>
  <dc:subject/>
  <dc:title>Slide 1</dc:title>
</cp:coreProperties>
</file>